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1AD-6614-403B-B8E3-0F761927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FC7-DD6B-49D6-B5E3-5FC8EFA9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204-8276-451B-8A59-2721C1DC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3DC-5F2F-408C-BC40-A71A496C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DDB3-C5A4-42CE-B445-46F5661D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5588-299F-4152-B2C9-92803888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9FB0-1A64-4601-857C-0C0C11F0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B207-ACC8-4D2A-B548-5B58A985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57B3-5219-42E3-9774-A670E36F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65C4-50A5-4923-911C-47C7249D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9ED2-C4A9-46AC-931D-A1C4D853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59F4-249E-4941-A8F6-FB1B567A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4664-34D3-43E6-B62A-7F0FD4DD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189F-D876-46EA-911C-23D8C519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1C5B-D03A-4A74-8BA7-C8A93EF9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011E-E5C3-4E11-BE2B-C4ABA085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C5CA-8AB2-43BB-B36A-035975D5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887-C45C-4891-8C9A-42A0E8B1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2B2-3E17-4C81-8633-27D23DA5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6C8B-86BE-4003-97FE-E788ED51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25B-4ACF-4C22-9F2A-B303D49E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587-CD49-470F-A29D-EEEC09C0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828-AD5E-4CD7-84E8-715FB847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B89-7516-4969-A5AF-067EC54B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B5BB-8445-44CE-9BB1-96939F02437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72E1-1666-4178-8A73-869A6965AF9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ahoma"/>
              </a:rPr>
              <a:t>BRITAIN</a:t>
            </a:r>
            <a:br>
              <a:rPr sz="7200"/>
            </a:b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*</a:t>
            </a:r>
            <a:r>
              <a:rPr b="1" lang="en-US" sz="7200" spc="-1" strike="noStrike">
                <a:solidFill>
                  <a:srgbClr val="ffffcc"/>
                </a:solidFill>
                <a:latin typeface="Tahoma"/>
              </a:rPr>
              <a:t>THE USA</a:t>
            </a: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*</a:t>
            </a:r>
            <a:r>
              <a:rPr b="1" lang="en-US" sz="7200" spc="-1" strike="noStrike">
                <a:solidFill>
                  <a:srgbClr val="ffffcc"/>
                </a:solidFill>
                <a:latin typeface="Tahoma"/>
              </a:rPr>
              <a:t> RUSSIA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76360" y="501300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 BRIEF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3280" y="530280"/>
            <a:ext cx="626436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807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7058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06436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417080" cy="55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56144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468360" y="260280"/>
          <a:ext cx="8280000" cy="1297080"/>
        </p:xfrm>
        <a:graphic>
          <a:graphicData uri="http://schemas.openxmlformats.org/drawingml/2006/table">
            <a:tbl>
              <a:tblPr/>
              <a:tblGrid>
                <a:gridCol w="8280000"/>
              </a:tblGrid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purse    downtown    lorry    oatmeal    note    shop     pants    return   11/06/98    license plate    porridge     post   hand bag    dressing gown    legal holiday     chips     06/11/98    bill single     bank holiday   petrol station     trousers   bathrobe    store    town centre    mail     number plate    truck    crisps    gas station      one way      round trip     oatme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11280" y="1700280"/>
          <a:ext cx="7921440" cy="4911480"/>
        </p:xfrm>
        <a:graphic>
          <a:graphicData uri="http://schemas.openxmlformats.org/drawingml/2006/table">
            <a:tbl>
              <a:tblPr/>
              <a:tblGrid>
                <a:gridCol w="3529080"/>
                <a:gridCol w="2160360"/>
                <a:gridCol w="223200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tio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 Ter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 Ter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th June 199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 of paper currenc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when offices are close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men wear over their leg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 of clothing worn in house at night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 bag carried by female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ce from where goods are bought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business part of a cit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 letters were sent before emai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l plate with number on a vehicl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vy goods vehicl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ce to buy fue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cket for one journe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cket for two journeys: out and back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unchy thin-sliced fried potatoe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real made from oats, sugar and milk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60" y="-3564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SW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9640" y="333360"/>
          <a:ext cx="7993080" cy="6159600"/>
        </p:xfrm>
        <a:graphic>
          <a:graphicData uri="http://schemas.openxmlformats.org/drawingml/2006/table">
            <a:tbl>
              <a:tblPr/>
              <a:tblGrid>
                <a:gridCol w="3456000"/>
                <a:gridCol w="2376720"/>
                <a:gridCol w="2160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 Ter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 Ter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th June 19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1/06/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c0000"/>
                          </a:solidFill>
                          <a:latin typeface="Arial"/>
                          <a:ea typeface="Times New Roman"/>
                        </a:rPr>
                        <a:t>06/11/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 of paper currenc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no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c0000"/>
                          </a:solidFill>
                          <a:latin typeface="Arial"/>
                          <a:ea typeface="Times New Roman"/>
                        </a:rPr>
                        <a:t>bil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 when offices are clos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bank holida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c0000"/>
                          </a:solidFill>
                          <a:latin typeface="Arial"/>
                          <a:ea typeface="Times New Roman"/>
                        </a:rPr>
                        <a:t>legal holid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men wear over their le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trous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c0000"/>
                          </a:solidFill>
                          <a:latin typeface="Arial"/>
                          <a:ea typeface="Times New Roman"/>
                        </a:rPr>
                        <a:t>pa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of clothing worn in house at nigh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dressing gow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c0000"/>
                          </a:solidFill>
                          <a:latin typeface="Arial"/>
                          <a:ea typeface="Times New Roman"/>
                        </a:rPr>
                        <a:t>bathrob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rge bag carried by fem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hand ba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c0000"/>
                          </a:solidFill>
                          <a:latin typeface="Arial"/>
                          <a:ea typeface="Times New Roman"/>
                        </a:rPr>
                        <a:t>pur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e from where goods are bough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sho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c0000"/>
                          </a:solidFill>
                          <a:latin typeface="Arial"/>
                          <a:ea typeface="Times New Roman"/>
                        </a:rPr>
                        <a:t>sto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business part of a c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town cent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c0000"/>
                          </a:solidFill>
                          <a:latin typeface="Arial"/>
                          <a:ea typeface="Times New Roman"/>
                        </a:rPr>
                        <a:t>downtow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letters were sent before ema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p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c0000"/>
                          </a:solidFill>
                          <a:latin typeface="Arial"/>
                          <a:ea typeface="Times New Roman"/>
                        </a:rPr>
                        <a:t>ma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l plate with number on a vehi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number pl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c0000"/>
                          </a:solidFill>
                          <a:latin typeface="Arial"/>
                          <a:ea typeface="Times New Roman"/>
                        </a:rPr>
                        <a:t>license pl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goods vehi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lor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c0000"/>
                          </a:solidFill>
                          <a:latin typeface="Arial"/>
                          <a:ea typeface="Times New Roman"/>
                        </a:rPr>
                        <a:t>truc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e to buy fu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petrol st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c0000"/>
                          </a:solidFill>
                          <a:latin typeface="Arial"/>
                          <a:ea typeface="Times New Roman"/>
                        </a:rPr>
                        <a:t>gas s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cket for one jour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sing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c0000"/>
                          </a:solidFill>
                          <a:latin typeface="Arial"/>
                          <a:ea typeface="Times New Roman"/>
                        </a:rPr>
                        <a:t>one w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cket for two journeys: out and bac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etur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c0000"/>
                          </a:solidFill>
                          <a:latin typeface="Arial"/>
                          <a:ea typeface="Times New Roman"/>
                        </a:rPr>
                        <a:t>round tr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unchy thin-sliced fried potato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cris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c0000"/>
                          </a:solidFill>
                          <a:latin typeface="Arial"/>
                          <a:ea typeface="Times New Roman"/>
                        </a:rPr>
                        <a:t>chi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al made from oats, sugar and mil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porrid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c0000"/>
                          </a:solidFill>
                          <a:latin typeface="Arial"/>
                          <a:ea typeface="Times New Roman"/>
                        </a:rPr>
                        <a:t>oatme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0" y="689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775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tional Heroes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47880" y="1600200"/>
            <a:ext cx="3055680" cy="4495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73720" y="1600200"/>
            <a:ext cx="2585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Complete the sentences using</a:t>
            </a: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hese words:</a:t>
            </a:r>
            <a:br>
              <a:rPr sz="20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iscovered    travelled    increased    expanded    settlements    extended    territory    connect    expeditions explored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hristopher Columbus ………… America in 1492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He made several …………. to the New Worl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The first ………… were on the east coas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People ………… the new land along the river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They………… by small boat or on foo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6      The …………. of the USA reached from the coast to the Mississippi by 1850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It ………….. westwards after the Civil Wa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The population …………. dramatically in the 19th century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Eventually it …………. from the Atlantic to the Pacific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10    Roads and planes ………... the major citi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700360" y="404640"/>
            <a:ext cx="414828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49600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54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164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5075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1:28:10Z</dcterms:created>
  <dc:creator>Irma</dc:creator>
  <dc:description/>
  <dc:language>en-US</dc:language>
  <cp:lastModifiedBy>Irma</cp:lastModifiedBy>
  <dcterms:modified xsi:type="dcterms:W3CDTF">2007-12-05T23:01:41Z</dcterms:modified>
  <cp:revision>4</cp:revision>
  <dc:subject/>
  <dc:title>BRITAIN *THE USA* RUSSIA</dc:title>
</cp:coreProperties>
</file>